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E99-241B-4DEF-8833-55C3FDA0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CFF-6372-4F12-85CE-8DD2FB24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5A4-D137-451F-BD09-DFA939C5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904-8235-4787-B390-35AA0DE5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BFA-6FDA-498F-B048-E802F61A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544-0141-4055-9034-2D75901C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7CA-6A08-4A75-BB07-F75C45A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6ED-452A-4FAA-8733-69B4721C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061-A560-459A-B62D-E4AFF656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A09-1C10-4C4D-BA84-032C36E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61B-987F-46F3-B1EE-BA7FE6EB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4AF-DECB-4CB7-854B-7B9E9E24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43BF-2C8E-4DC9-9EFF-31C972A3D7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9040" y="1981080"/>
            <a:ext cx="386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en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838080" y="91440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68432" r="0" b="8775"/>
          <a:stretch/>
        </p:blipFill>
        <p:spPr>
          <a:xfrm>
            <a:off x="1066680" y="3962520"/>
            <a:ext cx="693432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43200" y="3505320"/>
            <a:ext cx="3359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ational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0" b="26161"/>
          <a:stretch/>
        </p:blipFill>
        <p:spPr>
          <a:xfrm>
            <a:off x="1371600" y="457200"/>
            <a:ext cx="6477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68557" r="0" b="7610"/>
          <a:stretch/>
        </p:blipFill>
        <p:spPr>
          <a:xfrm>
            <a:off x="1219320" y="2133720"/>
            <a:ext cx="6629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8306" r="0" b="7610"/>
          <a:stretch/>
        </p:blipFill>
        <p:spPr>
          <a:xfrm>
            <a:off x="1295280" y="1905120"/>
            <a:ext cx="6400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9526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588"/>
          <a:stretch/>
        </p:blipFill>
        <p:spPr>
          <a:xfrm>
            <a:off x="10666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51346"/>
          <a:stretch/>
        </p:blipFill>
        <p:spPr>
          <a:xfrm>
            <a:off x="1143000" y="60948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46802" r="0" b="19514"/>
          <a:stretch/>
        </p:blipFill>
        <p:spPr>
          <a:xfrm>
            <a:off x="1143000" y="335268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53348" r="0" b="36362"/>
          <a:stretch/>
        </p:blipFill>
        <p:spPr>
          <a:xfrm>
            <a:off x="762120" y="3048120"/>
            <a:ext cx="7315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239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63650" r="0" b="30755"/>
          <a:stretch/>
        </p:blipFill>
        <p:spPr>
          <a:xfrm>
            <a:off x="762120" y="3048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3657600"/>
            <a:ext cx="7162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69270" r="0" b="25135"/>
          <a:stretch/>
        </p:blipFill>
        <p:spPr>
          <a:xfrm>
            <a:off x="990720" y="3048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99072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723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3345"/>
          <a:stretch/>
        </p:blipFill>
        <p:spPr>
          <a:xfrm>
            <a:off x="11430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73939" r="0" b="19514"/>
          <a:stretch/>
        </p:blipFill>
        <p:spPr>
          <a:xfrm>
            <a:off x="762120" y="3276720"/>
            <a:ext cx="731520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51346"/>
          <a:stretch/>
        </p:blipFill>
        <p:spPr>
          <a:xfrm>
            <a:off x="762120" y="8380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1143000" y="609480"/>
            <a:ext cx="7238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9588"/>
          <a:stretch/>
        </p:blipFill>
        <p:spPr>
          <a:xfrm>
            <a:off x="91440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10815"/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7399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1066680" y="83808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2286000"/>
            <a:ext cx="1143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604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3760" y="2438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9144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838080"/>
            <a:ext cx="6858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483"/>
          <a:stretch/>
        </p:blipFill>
        <p:spPr>
          <a:xfrm>
            <a:off x="990720" y="838080"/>
            <a:ext cx="739116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5720" y="541008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147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6T15:19:30Z</dcterms:modified>
  <cp:revision>211</cp:revision>
  <dc:subject/>
  <dc:title>Slide 1</dc:title>
</cp:coreProperties>
</file>